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5712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0512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3720" cy="4159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8D190-557F-4DAF-9191-E9CB93E08A46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81160" y="706320"/>
            <a:ext cx="461016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FF6-149D-4ADD-A3A1-DD2625A9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459-7528-4033-B035-47AB7C73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4BE-8DEC-435D-B705-818AE9D9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970-39EF-4448-8A8B-232F9FF1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B17C-C2F1-4AAA-AEF2-6734793F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CA7E-5B47-4424-8B98-23625978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A003-DAB3-438E-ADD9-FF2326EB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5F9E-11A2-432B-ACD8-208D40E5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D122-D257-422A-B095-F9C6B0CB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1230-1144-4B87-BFE0-B1C30968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65D-DA3D-401F-B8E4-E84C525D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97C-05DA-455F-83A2-B37BCFFF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64E9-2206-4542-9BA5-144853D7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26F8-FD39-48C9-B044-030A4ACF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4CFB-5D5D-4C8E-B504-CBECD310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0E12-A498-47A6-8F37-D86B6CAB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18D4-AAF2-4306-A313-463A62F2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FF8-C12A-4C4C-A909-155A74A0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FC1-A9C3-49D4-9590-5DE0E759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EC1-75B7-4906-AFEE-348189F0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209-96EA-4E1B-A279-852A9DC5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5B4-6415-47A5-AB29-EC220D4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FDD-84B3-4FB8-9636-91DEFDA9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7EF-4108-43BD-88D9-C209A3B0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15360" indent="-3153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03440" indent="-259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0844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5196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184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ACC63-51DB-4A38-8680-A25E2829EA06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46240"/>
            <a:ext cx="775512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A2591-F216-4C2E-9ADB-8A32D3E7F7F3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25400" indent="-2682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San Diego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anuary 15-16, 2009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ntario Institute for Cancer Resear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Browse 1.69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1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icGenePage 0.11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oPerl/BioGraphics spl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schema changes (but Changes.SQL will allow easy updat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dition of Chris Mungall's script to create views based on cvterm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74600"/>
            <a:ext cx="77594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Another GMOD success stor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15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HMI's Science Education Allian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llege freshme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olate and sequence phage samp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notate with Java WebStart, Chado and GBrow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production” now at 12 colleg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